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glissendo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B52-F61A-495D-9376-FEAD2B68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4C4-80F1-422C-9358-5773DBD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1E8-C15B-49F4-8C3D-A4CBD007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59B-B070-4F1A-B83B-CBA39A9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0B0-DD03-4319-A03F-3412F13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A34-5F9E-4E50-8B2B-E323B1F8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60F-5176-4306-856F-EF9DB62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131-B825-43F9-A807-C77B3DF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57F-FC5A-4E34-9E02-B13F6D39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F19-8F50-4245-A35D-C1F827A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1BB-B64D-4339-9298-C3504015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E4D-F834-4827-BEBE-C6223EE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495-DB32-4326-A351-C01F04468EAD}" type="slidenum">
              <a:rPr b="0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image" Target="../media/image2.jpeg"/><Relationship Id="rId5" Type="http://schemas.openxmlformats.org/officeDocument/2006/relationships/audio" Target="../media/glissend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cin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dfd293"/>
                </a:solidFill>
                <a:latin typeface="Impact"/>
              </a:rPr>
              <a:t>Initiation au ciné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1">
            <a:hlinkClick r:id="rId2" action="ppaction://hlinksldjump"/>
          </p:cNvPr>
          <p:cNvSpPr/>
          <p:nvPr/>
        </p:nvSpPr>
        <p:spPr>
          <a:xfrm>
            <a:off x="2770560" y="457200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Signaux et procédures à suiv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2">
            <a:hlinkClick r:id="rId3" action="ppaction://hlinksldjump"/>
          </p:cNvPr>
          <p:cNvSpPr/>
          <p:nvPr/>
        </p:nvSpPr>
        <p:spPr>
          <a:xfrm>
            <a:off x="3254760" y="507204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Principes à respe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 11" descr="pochetteinitiationfinal.jpg"/>
          <p:cNvPicPr/>
          <p:nvPr/>
        </p:nvPicPr>
        <p:blipFill>
          <a:blip r:embed="rId4"/>
          <a:stretch/>
        </p:blipFill>
        <p:spPr>
          <a:xfrm>
            <a:off x="3214800" y="298440"/>
            <a:ext cx="258444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1" descr="photossemaine4jeudis 232.jpg"/>
          <p:cNvPicPr/>
          <p:nvPr/>
        </p:nvPicPr>
        <p:blipFill>
          <a:blip r:embed="rId1">
            <a:lum bright="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5960" y="-20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Rockwell"/>
              </a:rPr>
              <a:t>Simulation d’un plateau de tournag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08000" y="1052640"/>
            <a:ext cx="101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08000" y="1557360"/>
            <a:ext cx="86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Voici les différents </a:t>
            </a:r>
            <a:r>
              <a:rPr b="0" lang="fr-CA" sz="1800" spc="-1" strike="noStrike">
                <a:solidFill>
                  <a:srgbClr val="ff0000"/>
                </a:solidFill>
                <a:latin typeface="Comic Sans MS"/>
              </a:rPr>
              <a:t>signaux</a:t>
            </a: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ainsi que les procédures que vous devez suivre en ordre lors d’un tourn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50920" y="2428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1.   Le cadreur et le réalisateur font un test de cadrage pendant que 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acteurs pratiquent une dernière fois leur tex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85840" y="32148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Rockwel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perchiste place son micro à environ 1 mètre au dessus des act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’ingénieur du son s’assure qu’il entend bien dans les écout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85840" y="40006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3.   Le scripte inscrit le numéro de la scène, du plan et de la prise sur 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cl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87280" y="47862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4.   Le réalisateur dit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Silence ! 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87280" y="5357880"/>
            <a:ext cx="87138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Rockwel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réalisateur dit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Moteur ! ».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cadreur met la caméra en marche 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répond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Ça tourne ! 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7" descr="activitétournesol 017.jpg"/>
          <p:cNvPicPr/>
          <p:nvPr/>
        </p:nvPicPr>
        <p:blipFill>
          <a:blip r:embed="rId1">
            <a:lum bright="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5960" y="-20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Rockwell"/>
              </a:rPr>
              <a:t>Simulation d’un plateau de tournag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8000" y="1052640"/>
            <a:ext cx="101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50920" y="1357200"/>
            <a:ext cx="90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Rockwel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’ingénieur du son s’assure que le son est bon, que le perchiste a plac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correctement son micro et qu’il ne bouge pas. Il dit ensui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Ça tourne aussi  ! 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85840" y="23511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Rockwel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scripte place le clap devant le cadre de la caméra et dit 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informations suivantes à haute voix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Scène __ , plan __ , prise __ 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85840" y="30765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Rockwel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réalisateur dit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Action ! ».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Le scripte se retire du cadre et les acteu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commencent à jou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87280" y="38448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9.   À la fin de la prise, qu’elle soit réussie ou non, le réalisateur dit: </a:t>
            </a:r>
            <a:r>
              <a:rPr b="0" lang="fr-CA" sz="1800" spc="-1" strike="noStrike">
                <a:solidFill>
                  <a:srgbClr val="ff0000"/>
                </a:solidFill>
                <a:latin typeface="Rockwell"/>
              </a:rPr>
              <a:t>« Coupez ! 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9" descr="activitétournesol 091.jpg"/>
          <p:cNvPicPr/>
          <p:nvPr/>
        </p:nvPicPr>
        <p:blipFill>
          <a:blip r:embed="rId1">
            <a:lum bright="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5960" y="-20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Rockwell"/>
              </a:rPr>
              <a:t>Simulation d’un plateau de tournage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08000" y="1052640"/>
            <a:ext cx="101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08000" y="135720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Voici </a:t>
            </a:r>
            <a:r>
              <a:rPr b="1" lang="fr-CA" sz="1800" spc="-1" strike="noStrike">
                <a:solidFill>
                  <a:srgbClr val="2704fc"/>
                </a:solidFill>
                <a:latin typeface="Rockwell"/>
              </a:rPr>
              <a:t>3 principes </a:t>
            </a: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importants à respecter lors d’un tourn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250920" y="2143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PRINCIPE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Le réalisateur est le grand patron, c’est lui qui décide des règles du je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Il faut écouter et suivre ses directives car si tout le monde parle en même temps, c’est le chao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287280" y="3357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PRINCIP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Les outils doivent être utilis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Au cinéma, rien n’est laissé au hasard. Ainsi, il faut suivre le mieux possible son plan pour arriver à des meilleurs résulta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i="1" lang="fr-CA" sz="1800" spc="-1" strike="noStrike">
                <a:solidFill>
                  <a:srgbClr val="000000"/>
                </a:solidFill>
                <a:latin typeface="Rockwell"/>
              </a:rPr>
              <a:t>* voir les outils dans la section pré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285840" y="49291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PRINCIPE 3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ff"/>
                </a:solidFill>
                <a:latin typeface="Rockwell"/>
              </a:rPr>
              <a:t>Prenez votre temp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Rockwell"/>
              </a:rPr>
              <a:t>Au cinéma, la qualité est beaucoup plus importante que la quantité 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36:25Z</dcterms:created>
  <dc:creator>Manuel Dufort</dc:creator>
  <dc:description/>
  <dc:language>en-US</dc:language>
  <cp:lastModifiedBy>Manuel Dufort</cp:lastModifiedBy>
  <dcterms:modified xsi:type="dcterms:W3CDTF">2010-07-26T07:04:10Z</dcterms:modified>
  <cp:revision>66</cp:revision>
  <dc:subject/>
  <dc:title>Initiation au cinéma</dc:title>
</cp:coreProperties>
</file>