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glissendo.wav" ContentType="audio/x-wav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EC5-A881-4266-A9AB-31C697A2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C9D-F3ED-487B-852D-BF485DC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695-DB3F-496A-B17E-035965EC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32E-7C82-4157-B900-62E2D597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BF8-956B-4FD5-970E-0B53C41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ED9-B2E7-49CF-9FF8-F93136A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184-60B7-472B-A31C-B55E675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A41-5494-4229-AAB9-24924FD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414-56E2-4DB3-8088-7254FF8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5BC-7F3E-49D1-A09E-8F48CB4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FB7-BABC-44F5-960E-C3BAF4A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585-D1A9-487A-999C-1598FF9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6172-70C8-4694-AE94-91758CC6AA0C}" type="slidenum">
              <a:rPr b="0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glissendo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cin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dfd293"/>
                </a:solidFill>
                <a:latin typeface="Impact"/>
              </a:rPr>
              <a:t>Initiation au ciné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224520" y="542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Techniques d’au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240360" y="455940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Découpage tech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627000" y="50007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Listes de proj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 11" descr="pochetteinitiationfinal.jpg"/>
          <p:cNvPicPr/>
          <p:nvPr/>
        </p:nvPicPr>
        <p:blipFill>
          <a:blip r:embed="rId2"/>
          <a:stretch/>
        </p:blipFill>
        <p:spPr>
          <a:xfrm>
            <a:off x="3214800" y="298440"/>
            <a:ext cx="258444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 découpage techniqu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600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7030a0"/>
                </a:solidFill>
                <a:latin typeface="Comic Sans MS"/>
              </a:rPr>
              <a:t>Qu’est-ce qu’un découpage technique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142920" y="20718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e découpage technique est le document de travail le plus précis qui sert principalement au réalisateur. Il concrétise le passage du scénario à une écriture cinématographique. Il est en quelque sorte un plan du film sur pap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Espace réservé du contenu 2"/>
          <p:cNvSpPr/>
          <p:nvPr/>
        </p:nvSpPr>
        <p:spPr>
          <a:xfrm>
            <a:off x="142920" y="3529080"/>
            <a:ext cx="8858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7030a0"/>
                </a:solidFill>
                <a:latin typeface="Comic Sans MS"/>
              </a:rPr>
              <a:t>Quelles informations retrouve-t-on dans un découpage technique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285840" y="407196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1. Le numéro du plan et de la 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Espace réservé du contenu 2"/>
          <p:cNvSpPr/>
          <p:nvPr/>
        </p:nvSpPr>
        <p:spPr>
          <a:xfrm>
            <a:off x="285840" y="442908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2. Le croquis du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Espace réservé du contenu 2"/>
          <p:cNvSpPr/>
          <p:nvPr/>
        </p:nvSpPr>
        <p:spPr>
          <a:xfrm>
            <a:off x="285840" y="47862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3. La description de l’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285840" y="514368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4. Les dialog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Espace réservé du contenu 2"/>
          <p:cNvSpPr/>
          <p:nvPr/>
        </p:nvSpPr>
        <p:spPr>
          <a:xfrm>
            <a:off x="271440" y="55008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5. L’échelle du plan, le mouvement de la caméra et l’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85840" y="58579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6. Les sons à ajouter au mo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21" descr="IM000971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 20" descr="découpage technique.jpg"/>
          <p:cNvPicPr/>
          <p:nvPr/>
        </p:nvPicPr>
        <p:blipFill>
          <a:blip r:embed="rId2"/>
          <a:stretch/>
        </p:blipFill>
        <p:spPr>
          <a:xfrm>
            <a:off x="2193840" y="-249120"/>
            <a:ext cx="5675400" cy="7332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7147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Découpage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technique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cliquez pour</a:t>
            </a:r>
            <a:br>
              <a:rPr sz="2000"/>
            </a:b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voir la</a:t>
            </a:r>
            <a:br>
              <a:rPr sz="2000"/>
            </a:b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progression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Image 22" descr="IMG_0635.JPG"/>
          <p:cNvPicPr/>
          <p:nvPr/>
        </p:nvPicPr>
        <p:blipFill>
          <a:blip r:embed="rId3"/>
          <a:stretch/>
        </p:blipFill>
        <p:spPr>
          <a:xfrm>
            <a:off x="2714760" y="1104840"/>
            <a:ext cx="2438280" cy="175284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23"/>
          <p:cNvSpPr/>
          <p:nvPr/>
        </p:nvSpPr>
        <p:spPr>
          <a:xfrm>
            <a:off x="5214960" y="1071720"/>
            <a:ext cx="22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bou atte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’arrivée de la princesse et du fou du ro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ZoneTexte 24"/>
          <p:cNvSpPr/>
          <p:nvPr/>
        </p:nvSpPr>
        <p:spPr>
          <a:xfrm>
            <a:off x="2571840" y="31431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rince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 voilà Babou, je suis contente de te voir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Ellipse 25"/>
          <p:cNvSpPr/>
          <p:nvPr/>
        </p:nvSpPr>
        <p:spPr>
          <a:xfrm>
            <a:off x="2571840" y="471492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lipse 26"/>
          <p:cNvSpPr/>
          <p:nvPr/>
        </p:nvSpPr>
        <p:spPr>
          <a:xfrm>
            <a:off x="2571840" y="578628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Ellipse 27"/>
          <p:cNvSpPr/>
          <p:nvPr/>
        </p:nvSpPr>
        <p:spPr>
          <a:xfrm>
            <a:off x="5000760" y="464328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ZoneTexte 28"/>
          <p:cNvSpPr/>
          <p:nvPr/>
        </p:nvSpPr>
        <p:spPr>
          <a:xfrm>
            <a:off x="5013720" y="578340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ruit des grelots d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fou du ro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ZoneTexte 29"/>
          <p:cNvSpPr/>
          <p:nvPr/>
        </p:nvSpPr>
        <p:spPr>
          <a:xfrm>
            <a:off x="4003200" y="2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ZoneTexte 30"/>
          <p:cNvSpPr/>
          <p:nvPr/>
        </p:nvSpPr>
        <p:spPr>
          <a:xfrm>
            <a:off x="5932080" y="2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28" descr="IM000972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-268200"/>
            <a:ext cx="9501120" cy="7126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11" descr="exemplelistedeprojet_Page_1.jpg"/>
          <p:cNvPicPr/>
          <p:nvPr/>
        </p:nvPicPr>
        <p:blipFill>
          <a:blip r:embed="rId2"/>
          <a:stretch/>
        </p:blipFill>
        <p:spPr>
          <a:xfrm>
            <a:off x="3357720" y="-214200"/>
            <a:ext cx="6000480" cy="7765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186840" y="65818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-398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Comic Sans MS"/>
              </a:rPr>
              <a:t> </a:t>
            </a:r>
            <a:r>
              <a:rPr b="1" lang="fr-CA" sz="3600" spc="-1" strike="noStrike">
                <a:solidFill>
                  <a:srgbClr val="2704fc"/>
                </a:solidFill>
                <a:latin typeface="Comic Sans MS"/>
              </a:rPr>
              <a:t>Les listes de proje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ZoneTexte 12"/>
          <p:cNvSpPr/>
          <p:nvPr/>
        </p:nvSpPr>
        <p:spPr>
          <a:xfrm>
            <a:off x="4929120" y="1001880"/>
            <a:ext cx="335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obe blanche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Marian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ose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Ér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nteau de fourrure                          * à confirm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4929120" y="2143080"/>
            <a:ext cx="392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ayé bleu et blanc              Nico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Jupe jaune et verte                            Isabel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ZoneTexte 15"/>
          <p:cNvSpPr/>
          <p:nvPr/>
        </p:nvSpPr>
        <p:spPr>
          <a:xfrm>
            <a:off x="4929120" y="32860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auc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ZoneTexte 16"/>
          <p:cNvSpPr/>
          <p:nvPr/>
        </p:nvSpPr>
        <p:spPr>
          <a:xfrm>
            <a:off x="4929120" y="43894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auc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ZoneTexte 17"/>
          <p:cNvSpPr/>
          <p:nvPr/>
        </p:nvSpPr>
        <p:spPr>
          <a:xfrm>
            <a:off x="4929120" y="5502240"/>
            <a:ext cx="335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obe blanche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Marian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ose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Ér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nteau de fourrure                          * à confirm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ZoneTexte 18"/>
          <p:cNvSpPr/>
          <p:nvPr/>
        </p:nvSpPr>
        <p:spPr>
          <a:xfrm>
            <a:off x="214200" y="1214280"/>
            <a:ext cx="3929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Voici les différentes lis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à prévoir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Espace réservé du contenu 2"/>
          <p:cNvSpPr/>
          <p:nvPr/>
        </p:nvSpPr>
        <p:spPr>
          <a:xfrm>
            <a:off x="414360" y="1957320"/>
            <a:ext cx="2871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1. Liste des cost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Espace réservé du contenu 2"/>
          <p:cNvSpPr/>
          <p:nvPr/>
        </p:nvSpPr>
        <p:spPr>
          <a:xfrm>
            <a:off x="357120" y="2386080"/>
            <a:ext cx="30718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2. Liste des accesso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Espace réservé du contenu 2"/>
          <p:cNvSpPr/>
          <p:nvPr/>
        </p:nvSpPr>
        <p:spPr>
          <a:xfrm>
            <a:off x="357120" y="2857680"/>
            <a:ext cx="3143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3. Liste des personn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Espace réservé du contenu 2"/>
          <p:cNvSpPr/>
          <p:nvPr/>
        </p:nvSpPr>
        <p:spPr>
          <a:xfrm>
            <a:off x="343080" y="3314880"/>
            <a:ext cx="308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4. Liste des horair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tour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343080" y="4071960"/>
            <a:ext cx="33001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5. Liste des maquill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Espace réservé du contenu 2"/>
          <p:cNvSpPr/>
          <p:nvPr/>
        </p:nvSpPr>
        <p:spPr>
          <a:xfrm>
            <a:off x="343080" y="4529160"/>
            <a:ext cx="3014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6. Liste des lie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343080" y="49579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7. Liste des effets spécia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s auditi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21392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7030a0"/>
                </a:solidFill>
                <a:latin typeface="Comic Sans MS"/>
              </a:rPr>
              <a:t>Les 3 types d’au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Espace réservé du contenu 2"/>
          <p:cNvSpPr/>
          <p:nvPr/>
        </p:nvSpPr>
        <p:spPr>
          <a:xfrm>
            <a:off x="428760" y="185724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1. L’audition li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28760" y="37861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2. L’audition improvisé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Espace réservé du contenu 2"/>
          <p:cNvSpPr/>
          <p:nvPr/>
        </p:nvSpPr>
        <p:spPr>
          <a:xfrm>
            <a:off x="428760" y="235728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Elle consiste à faire jouer aux acteurs une scène de leur choix. Les candidats doivent donc recevoir le scénario au complet à l’avance pour se préparer. C’est eux qui décident de la scène à jouer lors de l’au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Espace réservé du contenu 2"/>
          <p:cNvSpPr/>
          <p:nvPr/>
        </p:nvSpPr>
        <p:spPr>
          <a:xfrm>
            <a:off x="428760" y="431496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es acteurs n’ont pas de texte à préparer. Ils doivent seu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jouer de très courtes séquences que le réalisateur présente s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Les techniques d’audition (suite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21392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7030a0"/>
                </a:solidFill>
                <a:latin typeface="Comic Sans MS"/>
              </a:rPr>
              <a:t>Les 3 types d’au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Espace réservé du contenu 2"/>
          <p:cNvSpPr/>
          <p:nvPr/>
        </p:nvSpPr>
        <p:spPr>
          <a:xfrm>
            <a:off x="428760" y="185724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3. L’audition dirig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Espace réservé du contenu 2"/>
          <p:cNvSpPr/>
          <p:nvPr/>
        </p:nvSpPr>
        <p:spPr>
          <a:xfrm>
            <a:off x="428760" y="235728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Elle consiste à faire jouer aux acteurs une scène extraite du film. Les textes sont remis à l’avance pour leur permettre de se  prépa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880360" y="3286080"/>
            <a:ext cx="31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Exemple d’une audition dirigé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uditionssite.wmv" descr=""/>
          <p:cNvPicPr/>
          <p:nvPr/>
        </p:nvPicPr>
        <p:blipFill>
          <a:blip r:embed="rId2"/>
          <a:stretch/>
        </p:blipFill>
        <p:spPr>
          <a:xfrm>
            <a:off x="2214720" y="3643200"/>
            <a:ext cx="45003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36:25Z</dcterms:created>
  <dc:creator>Manuel Dufort</dc:creator>
  <dc:description/>
  <dc:language>en-US</dc:language>
  <cp:lastModifiedBy>Manuel Dufort</cp:lastModifiedBy>
  <dcterms:modified xsi:type="dcterms:W3CDTF">2010-07-26T07:06:59Z</dcterms:modified>
  <cp:revision>79</cp:revision>
  <dc:subject/>
  <dc:title>Initiation au cinéma</dc:title>
</cp:coreProperties>
</file>