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glissendo.wav" ContentType="audio/x-wav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B158-3E58-4A0A-9957-5D504242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5E5B-8572-43BF-BFD3-FE0F1FA1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C9D-0A33-4D9B-B27B-02D2194B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A0B4-2B08-4F26-B4E2-2E03647A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499E-0DDF-44E0-AFCF-B3E1F4C9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0A68-13C9-4933-A462-0B5C10AC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2499-30D3-4CCE-9357-05C87149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3A73-206D-48B9-BE33-93506BCF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444A-4876-4D9B-9AC5-F8C5C932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182-8E6E-49D7-9D98-4C9EB825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BF3E-2FEE-4367-8961-899B6988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071A-ED74-405E-A6CE-BB9A0A4F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9DC9-B2E5-4816-97C2-941B4552B4FD}" type="slidenum">
              <a:rPr b="0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glissendo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ondcinema"/>
          <p:cNvPicPr/>
          <p:nvPr/>
        </p:nvPicPr>
        <p:blipFill>
          <a:blip r:embed="rId2"/>
          <a:stretch/>
        </p:blipFill>
        <p:spPr>
          <a:xfrm>
            <a:off x="-1405080" y="8469360"/>
            <a:ext cx="10153800" cy="70754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2608200" y="4097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0" lang="fr-CA" sz="4400" spc="-1" strike="noStrike">
                <a:solidFill>
                  <a:srgbClr val="cc6600"/>
                </a:solidFill>
                <a:latin typeface="Impact"/>
              </a:rPr>
              <a:t>Initiation au cinéma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3210480" y="4076640"/>
            <a:ext cx="27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Impact"/>
              </a:rPr>
              <a:t>1. Choix du type de fil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502080" y="44370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Impact"/>
              </a:rPr>
              <a:t>2. Tempête d’idé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186840" y="6380280"/>
            <a:ext cx="42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Arial"/>
              </a:rPr>
              <a:t>* 2010, programme « initiation au cinéma pour le primaire 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7"/>
          <p:cNvSpPr/>
          <p:nvPr/>
        </p:nvSpPr>
        <p:spPr>
          <a:xfrm>
            <a:off x="3912120" y="479736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Impact"/>
              </a:rPr>
              <a:t>3. Synop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3673800" y="51577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Impact"/>
              </a:rPr>
              <a:t>4. Scène à scè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19"/>
          <p:cNvSpPr/>
          <p:nvPr/>
        </p:nvSpPr>
        <p:spPr>
          <a:xfrm>
            <a:off x="2868120" y="5510160"/>
            <a:ext cx="35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Impact"/>
              </a:rPr>
              <a:t>5. Description des personn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0"/>
          <p:cNvSpPr/>
          <p:nvPr/>
        </p:nvSpPr>
        <p:spPr>
          <a:xfrm>
            <a:off x="3414960" y="587700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Impact"/>
              </a:rPr>
              <a:t>6. Écriture du scén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Image 12" descr="pochetteinitiationfinal.jpg"/>
          <p:cNvPicPr/>
          <p:nvPr/>
        </p:nvPicPr>
        <p:blipFill>
          <a:blip r:embed="rId3"/>
          <a:stretch/>
        </p:blipFill>
        <p:spPr>
          <a:xfrm>
            <a:off x="3357720" y="214200"/>
            <a:ext cx="2428560" cy="314352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4" name="glissend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ondcinema"/>
          <p:cNvPicPr/>
          <p:nvPr/>
        </p:nvPicPr>
        <p:blipFill>
          <a:blip r:embed="rId1"/>
          <a:stretch/>
        </p:blipFill>
        <p:spPr>
          <a:xfrm>
            <a:off x="-1405080" y="8469360"/>
            <a:ext cx="10153800" cy="7075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cenario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1509480" y="260280"/>
            <a:ext cx="553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omic Sans MS"/>
              </a:rPr>
              <a:t>L’écriture d’un scénar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227160" y="1268280"/>
            <a:ext cx="70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Étape</a:t>
            </a:r>
            <a:r>
              <a:rPr b="1" lang="fr-CA" sz="2000" spc="-1" strike="noStrike">
                <a:solidFill>
                  <a:srgbClr val="000000"/>
                </a:solidFill>
                <a:latin typeface="Calligraph421 BT"/>
              </a:rPr>
              <a:t> 1 : choix du genre de film et du type de mét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809640" y="2708280"/>
            <a:ext cx="721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Il est important de choisir un genre qui plaira à toute l’équipe.  Sinon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certains membres seront moins motivés par la réalisation du proj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826920" y="1924200"/>
            <a:ext cx="738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- Les principaux genres sont: comédie, drame, policier, science-fiction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documentaire, aventure, suspense, horreur et expériment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809640" y="3500280"/>
            <a:ext cx="7434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Il faut penser aux problèmes techniques que peuvent présenter certai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genres cinématographiques. Par exemple, le choix du genre science-fi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implique la plupart du temps beaucoup de costumes et d’effets spéciaux 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réalis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809640" y="4843440"/>
            <a:ext cx="7434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Il faut penser au type de métrage, c’est-à-dire la durée du film. Un lo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métrage de 60 minutes n’implique pas la même organisation qu’un court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métrage de 5 minu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186840" y="6380280"/>
            <a:ext cx="42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* 2010, programme « initiation au cinéma pour le primaire 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ondcinema"/>
          <p:cNvPicPr/>
          <p:nvPr/>
        </p:nvPicPr>
        <p:blipFill>
          <a:blip r:embed="rId1"/>
          <a:stretch/>
        </p:blipFill>
        <p:spPr>
          <a:xfrm>
            <a:off x="-1405080" y="8469360"/>
            <a:ext cx="10153800" cy="7075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scenario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1509480" y="260280"/>
            <a:ext cx="553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omic Sans MS"/>
              </a:rPr>
              <a:t>L’écriture d’un scénar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73480" y="1268280"/>
            <a:ext cx="358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Étape</a:t>
            </a:r>
            <a:r>
              <a:rPr b="1" lang="fr-CA" sz="2000" spc="-1" strike="noStrike">
                <a:solidFill>
                  <a:srgbClr val="000000"/>
                </a:solidFill>
                <a:latin typeface="Calligraph421 BT"/>
              </a:rPr>
              <a:t> 2: la tempête d’idé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809640" y="3070080"/>
            <a:ext cx="7977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Pour trouver des idées, on peut s’inspirer des choses suivantes: de film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existants, de revues et articles dans les journaux,  d’observations au quotidien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de l’Internet ,de discussions avec des camarades, de paroles de chansons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de légendes ou d’histoires qui  existent déjà, de son imagination ou de cell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des autr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826920" y="2008080"/>
            <a:ext cx="73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Cette technique consiste à inscrire le genre de film choisi au milieu d’u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grand carton et d’inscrire toutes les idées qui nous passent par la tête.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(ex: idées de lieux, de situations, de personnages, etc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809640" y="4653000"/>
            <a:ext cx="7434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À l’étape de la tempête d’idées, il n’y a pas de contrainte. Toutes 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idées sont bonnes. Il faut donc éviter de se retenir ou de se questionner s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telle idée est bonne ou non. Elles seront discutées seulement à l’étape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suivan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186840" y="6380280"/>
            <a:ext cx="42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* 2010, programme « initiation au cinéma pour le primaire 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9" descr="scenario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fondcinema"/>
          <p:cNvPicPr/>
          <p:nvPr/>
        </p:nvPicPr>
        <p:blipFill>
          <a:blip r:embed="rId2"/>
          <a:stretch/>
        </p:blipFill>
        <p:spPr>
          <a:xfrm>
            <a:off x="-1405080" y="8469360"/>
            <a:ext cx="10153800" cy="7075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1509480" y="260280"/>
            <a:ext cx="553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omic Sans MS"/>
              </a:rPr>
              <a:t>L’écriture d’un scénar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859320" y="1052640"/>
            <a:ext cx="26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Étape 3: le synop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826920" y="2152800"/>
            <a:ext cx="721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Il sert à expliquer l’histoire en nous donnant le goût de voir le fil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sans toutefois nous dévoiler l’intrigu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826920" y="162864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Un synopsis, c’est un résumé de film de </a:t>
            </a:r>
            <a:r>
              <a:rPr b="1" lang="fr-CA" sz="1600" spc="-1" strike="noStrike">
                <a:solidFill>
                  <a:srgbClr val="000000"/>
                </a:solidFill>
                <a:latin typeface="Comic Sans MS"/>
              </a:rPr>
              <a:t>30 à 50 mots.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811080" y="2852640"/>
            <a:ext cx="79041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On retrouve les informations suivant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fr-CA" sz="1600" spc="-1" strike="noStrike">
                <a:solidFill>
                  <a:srgbClr val="000000"/>
                </a:solidFill>
                <a:latin typeface="Comic Sans MS"/>
              </a:rPr>
              <a:t>Qui ?    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Le personnage ou les personnages principaux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fr-CA" sz="1600" spc="-1" strike="noStrike">
                <a:solidFill>
                  <a:srgbClr val="000000"/>
                </a:solidFill>
                <a:latin typeface="Comic Sans MS"/>
              </a:rPr>
              <a:t>Quand ?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Le moment où se passe l’histoire (ex : au Moyen-Âge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fr-CA" sz="1600" spc="-1" strike="noStrike">
                <a:solidFill>
                  <a:srgbClr val="000000"/>
                </a:solidFill>
                <a:latin typeface="Comic Sans MS"/>
              </a:rPr>
              <a:t>Où ?    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Lieu principal où se passe l’histoire (ex : école)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fr-CA" sz="1600" spc="-1" strike="noStrike">
                <a:solidFill>
                  <a:srgbClr val="000000"/>
                </a:solidFill>
                <a:latin typeface="Comic Sans MS"/>
              </a:rPr>
              <a:t>Qu’est-ce qui se passe ?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Il s’agit de l’action générale du film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fr-CA" sz="1600" spc="-1" strike="noStrike">
                <a:solidFill>
                  <a:srgbClr val="000000"/>
                </a:solidFill>
                <a:latin typeface="Comic Sans MS"/>
              </a:rPr>
              <a:t>Quel est le but ?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Ce que l’acteur ou les acteurs principaux doivent accompli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pour régler le problèm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186840" y="6380280"/>
            <a:ext cx="42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* 2010, programme « initiation au cinéma pour le primaire 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3" descr="scenario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fondcinema"/>
          <p:cNvPicPr/>
          <p:nvPr/>
        </p:nvPicPr>
        <p:blipFill>
          <a:blip r:embed="rId2"/>
          <a:stretch/>
        </p:blipFill>
        <p:spPr>
          <a:xfrm>
            <a:off x="-1405080" y="8469360"/>
            <a:ext cx="10153800" cy="70754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1509480" y="260280"/>
            <a:ext cx="553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omic Sans MS"/>
              </a:rPr>
              <a:t>L’écriture d’un scénar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879120" y="1197000"/>
            <a:ext cx="29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Étape 4: scène à scè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26920" y="2492280"/>
            <a:ext cx="721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Permet de savoir à l’avance comment se déroulera l’histoire dans 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grandes lign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826920" y="1773360"/>
            <a:ext cx="720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Cette étape permet de faire un plan des scènes à réaliser avant de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commencer l’écriture du scénari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826920" y="3233880"/>
            <a:ext cx="743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En décidant à l’avance du début, du milieu et de la fin du film, on év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d’allonger inutilement le scénario et on sait davantage on l’on s’en va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826920" y="4159080"/>
            <a:ext cx="80661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Exemple d’un scène à scè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mic Sans MS"/>
              </a:rPr>
              <a:t>Scène 1 : Un enfant préhistorique traverse le temps à l’aide d’un portai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mic Sans MS"/>
              </a:rPr>
              <a:t>Scène 2 : Des enfants trouvent l’enfant préhistorique dans la cour de leur ma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mic Sans MS"/>
              </a:rPr>
              <a:t>Scène 3 : Ils partent à la recherche du portail qui permet à l’enfant préhistorique de retourner          dans son temp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mic Sans MS"/>
              </a:rPr>
              <a:t>Scène 4 : Ils sont confrontés à des chevaliers qui veulent voler le collier de l’enfant préhistoriqu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186840" y="6380280"/>
            <a:ext cx="42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* 2010, programme « initiation au cinéma pour le primaire 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scenario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fondcinema"/>
          <p:cNvPicPr/>
          <p:nvPr/>
        </p:nvPicPr>
        <p:blipFill>
          <a:blip r:embed="rId2"/>
          <a:stretch/>
        </p:blipFill>
        <p:spPr>
          <a:xfrm>
            <a:off x="-1405080" y="8469360"/>
            <a:ext cx="10153800" cy="7075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1509480" y="260280"/>
            <a:ext cx="553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omic Sans MS"/>
              </a:rPr>
              <a:t>L’écriture d’un scénar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834480" y="1447920"/>
            <a:ext cx="52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Étape 5 : la description des personn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809640" y="2873520"/>
            <a:ext cx="762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Cette description sert à définir de quelle(s) façon(s) les acteurs vont jouer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leur personnag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826920" y="2066760"/>
            <a:ext cx="717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À cette étape, on décrit les personnages du scénario : leur apparence,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leur caractère, leurs intérêts, leurs qualités et leurs défau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2148480" y="5786280"/>
            <a:ext cx="473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Les 5 premières étapes du scénario expliqué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brièvement par les scénaristes du film « Drôle d’époque 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186840" y="6380280"/>
            <a:ext cx="42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* 2010, programme « initiation au cinéma pour le primaire 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temoidroleepoque1.wmv" descr=""/>
          <p:cNvPicPr/>
          <p:nvPr/>
        </p:nvPicPr>
        <p:blipFill>
          <a:blip r:embed="rId3"/>
          <a:stretch/>
        </p:blipFill>
        <p:spPr>
          <a:xfrm>
            <a:off x="2928960" y="3429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7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1" descr="scenario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fondcinema"/>
          <p:cNvPicPr/>
          <p:nvPr/>
        </p:nvPicPr>
        <p:blipFill>
          <a:blip r:embed="rId2"/>
          <a:stretch/>
        </p:blipFill>
        <p:spPr>
          <a:xfrm>
            <a:off x="-1405080" y="8469360"/>
            <a:ext cx="10153800" cy="70754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1509480" y="260280"/>
            <a:ext cx="553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omic Sans MS"/>
              </a:rPr>
              <a:t>L’écriture d’un scénar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890640" y="9795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Étape 6 : le scéna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809640" y="2570040"/>
            <a:ext cx="721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Comment écrit-on un scénario 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826920" y="1635120"/>
            <a:ext cx="720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Il s’agit de  développer chacune des scènes qui ont été prévues d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l’étape 4 du scène à scèn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55640" y="3160800"/>
            <a:ext cx="83883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-  Il faut commencer en écrivant l’entête, c’est-à-dire l’information pour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identifier une scène. On note le numéro de la scène, la précision (intérieu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ou extérieur), le lieu du tournage et le moment de la journée (matin, jour, soir, nuit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Voici un exemple: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ligraph421 BT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SCÈNE 1. INTÉRIEUR. CHAMBRE DE SIMON. JOU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738360" y="4786200"/>
            <a:ext cx="743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Il faut écrire la narration, c’est-à-dire la partie qui décrit l’action de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l’histoire. Elle nous permet de comprendre ce qui se passe.</a:t>
            </a:r>
            <a:r>
              <a:rPr b="0" lang="fr-CA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exemple: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ligraph421 BT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Martin se rend à l’épicerie. En entrant, il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aperçoit Sylvie qui l’attend à la caiss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186840" y="6380280"/>
            <a:ext cx="42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* 2010, programme « initiation au cinéma pour le primaire 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2" descr="scenario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fondcinema"/>
          <p:cNvPicPr/>
          <p:nvPr/>
        </p:nvPicPr>
        <p:blipFill>
          <a:blip r:embed="rId2"/>
          <a:stretch/>
        </p:blipFill>
        <p:spPr>
          <a:xfrm>
            <a:off x="-1405080" y="8469360"/>
            <a:ext cx="10153800" cy="70754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1509480" y="260280"/>
            <a:ext cx="553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omic Sans MS"/>
              </a:rPr>
              <a:t>L’écriture d’un scénar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878760" y="1268280"/>
            <a:ext cx="34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Étape 6 : le scénario(sui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755640" y="1916280"/>
            <a:ext cx="743436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Il faut écrire les dialogues, c’est-à-dire les répliques que vont dire 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acteurs lors du tournage. Chaque dialogue est identifié par le nom de l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personne qui parle, EN MAJUSCULE et centr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Voici un exempl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SYLVI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Tu es en retard 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755640" y="3894120"/>
            <a:ext cx="788832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Il faut prévoir les didascalies, c’est-à-dire les détails sur la façon pour 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acteurs de s’exprimer, soit par des gestes ou des émotions. On les utilise 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chaque fois que c’est nécessaire et elles sont placées en dessous du nom 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la personne qui parl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Voici un exemple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SYLVI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(fâchée et en pointant Marti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Tu es en retard 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86840" y="6380280"/>
            <a:ext cx="42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* 2010, programme « initiation au cinéma pour le primaire 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fondcinema"/>
          <p:cNvPicPr/>
          <p:nvPr/>
        </p:nvPicPr>
        <p:blipFill>
          <a:blip r:embed="rId1"/>
          <a:stretch/>
        </p:blipFill>
        <p:spPr>
          <a:xfrm>
            <a:off x="-1405080" y="8469360"/>
            <a:ext cx="10153800" cy="7075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scenario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1509480" y="260280"/>
            <a:ext cx="553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omic Sans MS"/>
              </a:rPr>
              <a:t>L’écriture d’un scénar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642240" y="1268280"/>
            <a:ext cx="34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alligraph421 BT"/>
              </a:rPr>
              <a:t>Étape 6 : le </a:t>
            </a: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scénario(suite</a:t>
            </a:r>
            <a:r>
              <a:rPr b="1" lang="fr-CA" sz="2000" spc="-1" strike="noStrike">
                <a:solidFill>
                  <a:srgbClr val="000000"/>
                </a:solidFill>
                <a:latin typeface="Calligraph421 BT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776600" y="6116760"/>
            <a:ext cx="57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Extrait d’une séance d’écriture du film « Drôle d’époque 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186840" y="6380280"/>
            <a:ext cx="42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* 2010, programme « initiation au cinéma pour le primaire 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seancescenario2.wmv" descr=""/>
          <p:cNvPicPr/>
          <p:nvPr/>
        </p:nvPicPr>
        <p:blipFill>
          <a:blip r:embed="rId3"/>
          <a:stretch/>
        </p:blipFill>
        <p:spPr>
          <a:xfrm>
            <a:off x="1643040" y="17146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9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8:36:25Z</dcterms:created>
  <dc:creator>Manuel Dufort</dc:creator>
  <dc:description/>
  <dc:language>en-US</dc:language>
  <cp:lastModifiedBy>Jonathan</cp:lastModifiedBy>
  <dcterms:modified xsi:type="dcterms:W3CDTF">2010-07-26T17:08:34Z</dcterms:modified>
  <cp:revision>45</cp:revision>
  <dc:subject/>
  <dc:title> Initiation au cinéma</dc:title>
</cp:coreProperties>
</file>